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ACF-81DE-41D6-B229-9399BB6C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2E3-0A84-4F01-BDF6-BE0CAC9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453-53B9-4200-968D-E9DA5D9B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0D9-3DC4-426F-B159-0812308F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A34-78AA-4E9B-9B25-550465D7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0A10-849C-460C-9AD0-2E485E7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B1EE-0DCD-4849-8B7F-5D3E6AA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384-DC0F-4A5B-9DFC-4008A46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0D75-29EB-425D-B995-BC553C4A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2C6-91E3-4AA7-B635-ED2E44EC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D7CF-0EE5-45CD-9487-3BA64F6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82F-E978-4858-8F91-C45BB9F9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F7B1-60F3-4D55-BC29-ACD6A89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63FD-42AE-426A-9EB2-4412AFA1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37B6-5CBE-41FC-AA36-DDBF672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160D-3A6B-41CC-8936-ACB6C724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264C-1A91-4C6E-A9E1-A07FAF42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084-C791-407C-8264-513FF5DA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44D-1108-4988-9EBC-8E56C77B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19-876E-453A-9A1C-86B15AF2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8A5-1D07-4A59-B749-79E9F76F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0D6-461A-4913-B65B-EC5A63C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5F7-CAF5-4B48-BFD1-5CD6302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6C7-EF95-44A3-AB50-1524FC4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EAA-5810-4A8F-A8EE-E5BE77FDBC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09E2-3CF9-4932-93B9-4FD40FF92F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Calibri"/>
              </a:rPr>
              <a:t>ГБОУ ДПО РК КРИППО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Организация методической работы    с педагогическими работниками</a:t>
            </a:r>
            <a:br>
              <a:rPr sz="2800"/>
            </a:br>
            <a:r>
              <a:rPr b="1" lang="ru-RU" sz="3600" spc="-1" strike="noStrike">
                <a:solidFill>
                  <a:srgbClr val="b9efee"/>
                </a:solidFill>
                <a:latin typeface="Times New Roman"/>
                <a:ea typeface="Calibri"/>
              </a:rPr>
              <a:t>на этапе реализации ФГОС ДО</a:t>
            </a:r>
            <a:br>
              <a:rPr sz="36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Красёха М.Н., методист ЦРДНО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77708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методической работы   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пособу организации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коллективные, групповые, индивидуальн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-</a:t>
            </a:r>
            <a:r>
              <a:rPr b="1" i="1" lang="ru-RU" sz="3200" spc="-1" strike="noStrike">
                <a:solidFill>
                  <a:srgbClr val="ffff00"/>
                </a:solidFill>
                <a:latin typeface="Garamond"/>
              </a:rPr>
              <a:t>по степени активности участников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(пассивные, активные, интерактивные)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1680" y="259920"/>
            <a:ext cx="82296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Активные и интерактивные формы обучения педагогов способству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созданию атмосферы, снимающей у взрослых напряженность и тревожность в связи с включением в образовательную деятельность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   уровня    активности, самостоятельности, стремления к сотрудничеству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стимулированию интереса и мотивации педагогов к самообразованию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повышению профессионального мастерства педагогических работник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развитию навыков рефлексии собственной педагогической деятель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предлагаем организовать деятельность методических формирований по единой теме: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«Повышение профессиональной компетентности руководителей и специалистов дошкольных образовательных организаций в условиях обновления содержания дошкольного образования посредством использования разных форм методической работ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9440" y="33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Задачи методической деятельности с педагогическими работниками ДОО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в 2020/2021 учебном году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хранение доступности образования для воспитанников раннего и дошкольного возраста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обеспечение здоровьесберегающей направленности воспитательно-образовательного процесса в дошкольных образовательных организациях на основе межведомственного взаимодействия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 совершенствование качества образовательного процесса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28e0ad175bdd копия"/>
          <p:cNvPicPr/>
          <p:nvPr/>
        </p:nvPicPr>
        <p:blipFill>
          <a:blip r:embed="rId1"/>
          <a:srcRect l="0" t="12067" r="0" b="9270"/>
          <a:stretch/>
        </p:blipFill>
        <p:spPr>
          <a:xfrm>
            <a:off x="5219640" y="5229360"/>
            <a:ext cx="33894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79898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рамках методической рабо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в 2020/2021 учебном году                                         следует продолжить работ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Прямоугольник 7"/>
          <p:cNvSpPr/>
          <p:nvPr/>
        </p:nvSpPr>
        <p:spPr>
          <a:xfrm>
            <a:off x="108000" y="2060640"/>
            <a:ext cx="90360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образовательного процесса на родном языке в дошкольных образовательных организациях с русским языком обучения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формированию основ безопасной жизнедеятельности у воспитанников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созданию условий для экономического воспитания и основ финансовой грамотности детей дошкольного возраста;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развивающей предметно-пространственной среды в дошкольных образовательных организациях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Garamond"/>
              </a:rPr>
              <a:t>организации     альтернативных форм дошкольного образовани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0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иоритетные задачи в деятельности дошкольных образовательных организаций в условиях реализации ФГОС ДО в 2020/2021 учебном году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повышение профессиональной компетентности педагогических работников с учетом требований ФГОС ДО и возможностей образовательного пространства ДОО, в том числе с применением дистанционных технологий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совершенствование работы дошкольных образовательных организаций по укреплению здоровья воспитанников посредством создания системы формирования культуры здоровья и безопасного образа жизни у всех участников образовательного процесс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активизация работы по освоению новых педагогических технологий, инновационных образовательных программ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ответственных и взаимозависимых отношений с семьями воспитанников, обеспечивающие развитие личности ребенка в процессе реализации традиционных и инновационных форм сотрудничества, в том числе дистанционны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развитие системы дополнительного образования дет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99"/>
                </a:solidFill>
                <a:latin typeface="Garamond"/>
              </a:rPr>
              <a:t>Успехов в работе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3" descr="DSC04332"/>
          <p:cNvPicPr/>
          <p:nvPr/>
        </p:nvPicPr>
        <p:blipFill>
          <a:blip r:embed="rId1"/>
          <a:stretch/>
        </p:blipFill>
        <p:spPr>
          <a:xfrm>
            <a:off x="1042920" y="1916280"/>
            <a:ext cx="7056360" cy="46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9:01:37Z</dcterms:created>
  <dc:creator>Оля</dc:creator>
  <dc:description/>
  <dc:language>en-US</dc:language>
  <cp:lastModifiedBy>Татьяна</cp:lastModifiedBy>
  <dcterms:modified xsi:type="dcterms:W3CDTF">2020-09-01T08:06:14Z</dcterms:modified>
  <cp:revision>58</cp:revision>
  <dc:subject/>
  <dc:title>Слайд 1</dc:title>
</cp:coreProperties>
</file>